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PR-infected and at-risk countries in Africa, Asia, and Europe. Countries considered infected are colored in red, and countries at high risk of infection are indicated with red stripes. Countries in white are considered free and at low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Opportunity To Eradicate Peste des Petits Ruminant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effrey C. Mariner, Bryony A. Jones, Karl M. Rich, Samuel Thevasagayam, John Anderson, Martyn Jeggo, Yi Cai, Andrew R. Peters, and Peter L. Roed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96(9):3499-350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 201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6 by The American Association of Immunologists, Inc.</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PR-infected and at-risk countries in Africa, Asia, and Europ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1550880" y="1079640"/>
            <a:ext cx="6981840" cy="5394240"/>
          </a:xfrm>
          <a:prstGeom prst="rect">
            <a:avLst/>
          </a:prstGeom>
          <a:ln w="0">
            <a:noFill/>
          </a:ln>
        </p:spPr>
      </p:pic>
      <p:sp>
        <p:nvSpPr>
          <p:cNvPr id="49" name=""/>
          <p:cNvSpPr/>
          <p:nvPr/>
        </p:nvSpPr>
        <p:spPr>
          <a:xfrm>
            <a:off x="1550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ffrey C. Mariner et al. J Immunol 2016;196:3499-350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6 by The American Association of Immunologists, Inc.</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