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HLA-B*35-restricted CD8 T cell responses to HIV-1 and HIV-1 variants associated with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HLA-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*35 at the population level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Cryopreserved PBMC of seven HIV-infected patients were stained with HLA-B*35 tetramers in complex with the indicated peptides. The PBMC samples used for each patient were taken at the following times: Pt-01, September 1999; Pt-03, June 2002; Pt-15, June 2001; Pt-19, May 2001; Pt-34, April 2001; Pt-42, August 2001; and Pt-46, April 2001 (see Table I). The frequency of tetramer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CD8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in the total CD8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subset was plotted in the graph. Bars indicate the mean for each group. It should be noted that the background level of staining was 0.025% for all tetramers used as determined by the data from at least five HIV-negative donors (mean + 3 SD)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Autologous viral RNA was prepared from chronic HIV-infected patients positiv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= 12) or negativ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= 30) for HLA-B*35. The Pol-, Env-, and Nef-encoding regions within and flanking the HLA-B*35-restricted CTL epitopes were specifically amplified by PCR and directly sequenced. Amino acid sequences indicated are clade B consensus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upper li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and variants associated with HLA-B*35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lower li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. Epitope regions are underlined and dashes denote amino acids identical with those of the clade B consensus sequ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eneration of CTL clones specific for Nef and its variant in vitro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Cytotoxic activity of a representative set of 50 CTL clones toward C1R-B*3501 cells pulsed with the indicated concentrations (0.01, 0.1, and 1 μM) of the Arg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7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or Thr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7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eptide at an E:T ratio of 2:1. The data obtained for CTL N-44 and N-142 are indicated. Specific lysis in the absence of peptide was &lt;5%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Cytotoxic activity of CTL clones CTL N-44 and N-142 toward C1R-B*3501 cells expressing the Arg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7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-Nef-GFP protein, the Thr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7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-Nef-GFP protein, or GFP alone. Of the target cells, 85 ± 5% were GFP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D8 T cell responses toward Nef and its variant ex vivo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PBMCs of seven HIV-infected patients, the same as those used in Fig. 1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and five HIV-negative donors were stained with PE and allophycocyanin-conjugated HLA-B*35 tetramers in complex with the Arg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7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nd Thr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7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eptides, respectively. After the dead cells had been gated out by staining with 7-AAD, the remaining cells were analyzed for their binding to each of the tetramers and for their cross-reactivity. The frequency of tetramer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D8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in the total CD8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subset was plotted in the graph. Bars indicate the mean for each group. Representative dot plots for three HIV-infected subjects (Pt-03, Pt-15, and Pt-42) and a HIV-negative donor are shown with tetramer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frequency values in each dot plot. It should be noted that identical results were obtained when the fluorochromes of HLA tetramers were reversed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PBMCs of Pt-03 taken at several different time points were stained with HLA-B*35 tetramer in complex with the Arg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7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(RPQVPLRPMTY) or Thr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7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(TPQVPLRPMTY) Nef peptide and subsequently with anti-CD8 mAb and 7-AAD. The frequency of tetramer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D8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in the total CD8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subset was calculated and plotted in the 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ntiviral effector functions of CD8 T cells specific for Nef epitopes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The cytotoxic activity of CD8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cells isolated from PBMC samples of HIV-positive donors (Pt-01, Pt-03, Pt-15, Pt-19, and Pt-34) was examined by 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5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r-release assay directly ex vivo. The autologous target cells alone or pulsed with 1 μM Arg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7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or Thr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7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eptide were incubated with the effector CD8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cells at E:T ratios of 2.2, 6.7, 20, and 60 for 12 h. At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lef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a representative set of data for Pt-03 and Pt-19 is shown. At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righ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cytotoxic activity obtained at an E:T ratio of 20 is shown. Horizontal bars in the graphs indicate the mean for each group. It should be noted that the cytotoxic activity of CD8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cells was not examined for Pt-42 and Pt-46 because of the insufficient number of cells available for this assay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The cytotoxic activity of CD8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cells isolated from PBMC samples of HIV-positive donors (Pt-03, Pt-15, and Pt-19) was examined by the 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5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r-release assay with the autologous target cells pulsed with the indicated concentrations of the Arg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7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or Thr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7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eptide at an E:T ratio of 20. Specific lysis in the absence of peptide is shown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. 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PBMC samples, the same as those used in Fig. 1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were stimulated or unstimulated with 1 μM Arg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7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or Thr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7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eptide for 6 h and then stained intracellularly with anti-IFN-γ, TNF-α, or IL-2 mAbs. The frequencies of the subsets exhibiting cytokine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D8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cells within the CD8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cell population are indicated in the graphs. Horizontal bars in the graphs indicate the mean for each group. At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righ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 representative set of dot plots for Pt-03 is shown with cytokine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frequency values at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upper right corn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of each dot p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roliferative capacity of CD8 T cells specific for Nef epitopes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The PBMC samples, the same as those used in Fig. 1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were stimulated with irradiated C1R-B*3501 cells or autologous EBV-transformed B cells that had been pulsed with 1 μM Arg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7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or Thr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7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eptide or had been transduced with mRNA encoding GFP or Nef-GFP fusion proteins carrying Arg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7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or Thr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7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. Twelve days after the stimulation, the cells were analyzed with the HLA-B*35 tetramers. As shown in the graph at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lef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the proliferation index was obtained as the ratio of tetramer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frequencies after and before stimulation. Horizontal bars in the graphs indicate the mean for each group. At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righ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a representative set of dot plots for Pt-03 and Pt-42 is shown with tetramer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frequency values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The PBMC samples of HIV-positive donors (Pt-01, Pt-03, Pt-15, Pt-19, and Pt-34) were first labeled with CFSE and incubated in a medium containing human rIL-2 (100 U/ml). The cells were stimulated with IL-2 alone or in combination with 1 μM Arg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7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or Thr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7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eptide. After 6 days of culture, the cells were then stained with indicated HLA-tetramers and anti-CD8 and -CD3 Abs. The CD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CD8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subsets were gated and analyzed for their fluorescence intensity of CFSE. The frequency of CFSE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lo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cells within the tetramer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subset is shown in the graph at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lef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. Horizontal bars in the graph indicate the mean for each group. At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righ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a representative set of dot plots for Pt-03 and Pt-19 is shown with CFSE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lo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frequency values. It should be noted that CFSE dilution assay was not conducted for the subjects Pt-42 and Pt-46 because of the insufficient number of cells available for this ass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unctional analysis of CD8 T cells specific for Pol and Env epitopes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Cytotoxic activity of four different CTL clones, CTL 55, CTL 589, E-113, and E-118, toward autologous EBV-transformed B cells infected with mock or vesicular stomatitis virus envelope glycoprotein-pseudotyped HIV-1 expressing Ile or Val at Pol 448. It should be noted that ∼75% of the target cells were positive for p24 Gag protein expression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Pt-03 PBMCs were stimulated with IL-2 alone or with autologous EBV-transformed B cells infected with the same viruses as above. After 12 days in culture, the cells were stained with a HLA-B*35 tetramer in complex with Pol-Ile peptide and then additionally with anti-CD8 and anti-TCR mAbs. The CD8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tetramer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subsets were gated and analyzed for their TCR usage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PBMCs of Pt-03 taken at several different time points were separately stained with the HLA-B*35 tetramer in complex with the Pol (IPLTEEAEL) or Env (DPNPQEVVL) peptide and subsequently with anti-CD8 and anti-TCR mAbs. The CD8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etramer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subsets were gated and analyzed for their TCR u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tering Effects of Antigenic Variations in HIV-1 on Antiviral Effectiveness of HIV-Specific CT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Takamasa Ueno, Yuka Idegami, Chihiro Motozono, Shinichi Oka, and Masafumi Takiguc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 Immun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78(9):5513-55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y 1,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7 by The American Association of Immunologi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343640" y="6696000"/>
            <a:ext cx="251964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LA-B*35-restricted CD8 T cell responses to HIV-1 and HIV-1 variants associated with HLA-B*35 at the population leve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43640" y="6696000"/>
            <a:ext cx="2519640" cy="71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9800" y="2014560"/>
            <a:ext cx="8604360" cy="3522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kamasa Ueno et al. J Immunol 2007;178:5513-55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7 by The American Association of Immunologi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eneration of CTL clones specific for Nef and its variant in vitr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43640" y="6696000"/>
            <a:ext cx="2519640" cy="71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39800" y="2489040"/>
            <a:ext cx="8604360" cy="2575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kamasa Ueno et al. J Immunol 2007;178:5513-55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7 by The American Association of Immunologi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D8 T cell responses toward Nef and its variant ex viv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343640" y="6696000"/>
            <a:ext cx="2519640" cy="719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39800" y="2278080"/>
            <a:ext cx="8604360" cy="2997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kamasa Ueno et al. J Immunol 2007;178:5513-55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7 by The American Association of Immunologi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tiviral effector functions of CD8 T cells specific for Nef epitop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343640" y="6696000"/>
            <a:ext cx="2519640" cy="719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06400" y="1079640"/>
            <a:ext cx="8474040" cy="5394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064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kamasa Ueno et al. J Immunol 2007;178:5513-55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7 by The American Association of Immunologi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liferative capacity of CD8 T cells specific for Nef epitop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343640" y="6696000"/>
            <a:ext cx="2519640" cy="7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316240" y="1079640"/>
            <a:ext cx="5454720" cy="5394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162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kamasa Ueno et al. J Immunol 2007;178:5513-55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7 by The American Association of Immunologi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unctional analysis of CD8 T cells specific for Pol and Env epitop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43640" y="6696000"/>
            <a:ext cx="2519640" cy="719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39800" y="2657520"/>
            <a:ext cx="8604360" cy="2238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kamasa Ueno et al. J Immunol 2007;178:5513-55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7 by The American Association of Immunologi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