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argeted disruption of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gene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Schematic representation of the wild-typ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llele, the targeting vector, and the predicted targeted allele are shown. In the target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llele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e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replaces exon 1 plus 0.7 kb upstream and 0.6 kb downstream of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gene. B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HI; H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H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III; S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a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I; N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o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; TK, thymidine kinase;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e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neomycin resistance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Southern blot analysis of genomic DNA from wild-type (+/+), heterozygous (+/−), and homozygous (−/−) mice. Afte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HI digestion, the wild-type allel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i="1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W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is detected as a 3.6-kb fragment, whereas the targeted allel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i="1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Ne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is detected as a 4.5-kb fragment using probe as indicated in Fig. 1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. 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Western blot of KLF13 expression in thymocytes from two littermate pairs of wild-type (+/+) and mutant (−/−) mice, with TUBA1 used as an internal control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Western blot of KLF13 expression in splenocytes, with JAB1 used as an internal control. Splenocytes from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littermates were left untreated (Day 0) or activated with anti-CD3 and anti-CD28 Abs for 5 days (Day 5)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KLF13 positively regulates RANTES expression in T lymphocytes. Splenic CD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T lymphocytes isolated from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littermates were stimulated with anti-CD3 and anti-CD28 Abs. Supernatants were removed on day 1 and day 5 and RANTES was measured by ELISA. Data presented are the mean ± SD from three pairs of littermates (∗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henotypic comparison of thymus and spleen from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littermates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Increased mass of lymphoid organs and increased numbers of thymocytes and splenocyte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. Three sets of littermates were subjected to pathological examination and all other parameters examined were normal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Enlarged spleens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from three pairs of littermates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Increased numbers of thymocyte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at different ages as indicated. All values are the mean ± SD from three pairs of littermates (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 and ∗∗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01)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Increased numbers of splenocyte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at different ages as indicated. All values are the mean ± SD from three pairs of littermates (∗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1 and ∗∗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0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ormal proliferation and cell division in cells from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Incorporation of BrdU into bone marrow cells (BM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op panel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and thymocytes (T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ottom panel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from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Cell division in activat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CD4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or 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splenocytes. CFSE-labeled cells were cultured in vitro with anti-CD3 and anti-CD28 Abs and analyzed by flow cytometry at the indicated times. For both experiments, three littermate pairs were tested and data from one littermate pair are pres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ymocyte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exhibit defective cell death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TUNEL assay. Fold decrease in apoptotic cells of thymocyte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in comparison to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. Data are the mean ± SD from three pairs of littermates (∗∗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01)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thymocytes are more resistant to spontaneous cell death when cultured in vitro. Data are the mean ± SD from three pairs of littermates. Differences betwe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were analyzed by ANOVA and shown to be significant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001)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thymocytes are more resistant to activation-induced cell death tha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thymocytes when cultured in vitro with Con A (10 μg/ml). Data are the mean ± SD from three pairs of littermates. Differences betwe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were analyzed by ANOVA and shown to be significant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017)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Cells from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are more resistant to staurosporine-induced apoptosis compared wit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. Three littermate pairs were tested in triplicate and data from one littermate pair are presented as the mean ± SD (∗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1 and ∗∗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0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ncreased expression of BCL-X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in thymocytes and splenocytes from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rt-qPCR analysis. Fold increase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cl-x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expression in thymocytes and splenocytes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compared wit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was measured by rt-qPCR and normalized by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us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Values are the mean ± SD for three sets of littermates (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 and ∗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1)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Western blot analysis. Fold increase in BCL-X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expression in thymocytes and splenocytes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compared wit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was detected in whole cell lysates and normalized to JAB1. Quantitation was performed by densitometry and values are graphed as the mean ± SD from three sets of littermates (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 and ∗∗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01). Blots shown are representative of one littermate set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rt-qPCR analysis of CD4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thymocytes. Fold increase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cl-x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expression in CD4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D8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cells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compared wit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was measured by rt-qPCR and normalized by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us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Values are the mean ± SD for three sets of littermates (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 and ∗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LF13 is a negative regulator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cl-x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expression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Schematic representation of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cl-x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romoter showing KLF13 consensus binding sites (▮). Numbers are relative to the +1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cl-x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translational start site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EMSA of recombinant GST-KLF13 binding to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cl-x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romoter was performed using probes corresponding to sequential 300-bp regions of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cl-x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romoter from −1,800 to −1 bp relative to the translational start site. Purified GST from empty pGEX4T-1 vector was used as a negative control. Supershift using anti-KLF13 Ab or a negative control Ab (p53 Ab) is indicated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KLF13 represse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cl-x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romoter activity. NIH3T3 cells were cotransfected with a series of luciferase reporter constructs containing nested deletions or sequential 300-bp regions of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cl-x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romoter from −1,800 to −1 bp relative to the translational start site as indicated, and either pcDNA3.1(+) or mouse KLF13 expression plasmid. Luciferase activity was measured in cell lysates from transfected cells and normalized by total cellular protein concentration. Values are the mean ± SD for three independent transfections (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5, ∗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1, and ∗∗∗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0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rüppel-Like Transcription Factor 13 Regulates T Lymphocyte Survival In V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Meixia Zhou, Lisa McPherson, Dongdong Feng, An Song, Chen Dong, Shu-Chen Lyu, Lu Zhou, Xiaoyan Shi, Yong-Tae Ahn, Demin Wang, Carol Clayberger, and Alan M. Krens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 Immu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78(9):5496-55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y 1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7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ed disruption of the Klf13 ge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32280" y="1079640"/>
            <a:ext cx="222084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322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ixia Zhou et al. J Immunol 2007;178:5496-55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7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enotypic comparison of thymus and spleen from Klf13+/+, Klf13+/−, and Klf13−/− litterm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59240" y="1079640"/>
            <a:ext cx="316872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592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ixia Zhou et al. J Immunol 2007;178:5496-55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7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rmal proliferation and cell division in cells from Klf13−/− m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537000" y="1079640"/>
            <a:ext cx="301140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370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ixia Zhou et al. J Immunol 2007;178:5496-55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7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ymocytes in Klf13−/− mice exhibit defective cell deat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81600" y="1079640"/>
            <a:ext cx="212220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8160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ixia Zhou et al. J Immunol 2007;178:5496-55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7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creased expression of BCL-XL in thymocytes and splenocytes from Klf13−/− m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032360" y="1079640"/>
            <a:ext cx="2019240" cy="539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0323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ixia Zhou et al. J Immunol 2007;178:5496-55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7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LF13 is a negative regulator of Bcl-xL express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620800" y="1079640"/>
            <a:ext cx="4843800" cy="5394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0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ixia Zhou et al. J Immunol 2007;178:5496-55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7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