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HRHR-deficien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it/li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 are resistant to MOG-induced EAE. EAE was induced in the mice by immunization with M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35–5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 in CFA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Clinical scores of mice in respective groups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5 mice per group) were averaged and are shown for every day. These data are representative of two independent experiments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Maximal clinical scores of individual mice. The averages were 0.0 ± 0.0, 0.8 ± 1.3, and 1.9 ± 1.4 for control C57BL/6J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i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/+,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it/li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, respectively. These data are pooled from two independent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OG-specific proliferation of lymphocytes in vitro was not impaired in GHRHR-deficien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it/li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. EAE was induced in the mice as in Fig. 1 and sacrificed 32 days after immunization. Splenocytes were cultured with various concentrations of M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35–5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r Con A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Proliferation was measured by incorporation of [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]thymidine. Results are shown as means ± SD. The experiments were repeated twice with similar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nduction of M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35–5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-specific Abs in GHRHR-deficien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it/li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ice. Serum samples were prepared from peripheral blood collected at 30 days after EAE induction. Each sample was diluted 50-fold and tested for anti-M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35–5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IgG by ELISA using plate coated with MOG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35–5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peptides and HRP-conjugated anti-IgG Ab. Horizontal bars represent the mean values of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tting Edge: Requirement for Growth Hormone-Releasing Hormone in the Development of Experimental Autoimmune Encephalomye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Hideto Ikushima, Masaharu Kanaoka, and Shinichi Koj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 Immu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71(6):2769-27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ptember 15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HRHR-deficient lit/lit mice are resistant to MOG-induced EAE. EAE was induced in the mice by immunization with MOG35–55 peptide in CFA. A, Clinical scores of mice in respective groups (n = 5 mice per group) were averaged and are shown for every da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63760" y="1079640"/>
            <a:ext cx="35578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63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deto Ikushima et al. J Immunol 2003;171:2769-27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G-specific proliferation of lymphocytes in vitro was not impaired in GHRHR-deficient lit/lit m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70080" y="1079640"/>
            <a:ext cx="574668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700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deto Ikushima et al. J Immunol 2003;171:2769-27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duction of MOG35–55-specific Abs in GHRHR-deficient lit/lit mic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43640" y="6696000"/>
            <a:ext cx="2519640" cy="7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71920" y="1079640"/>
            <a:ext cx="294012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719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deto Ikushima et al. J Immunol 2003;171:2769-27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2003 by The American Association of Immunologi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