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RSV infection induces CXCR2 expression in the lungs. BALB/c mice were infected with RSV and RNA was isolated from their lungs at 0, 2, 4, and 8 dpi. Following RNA purification, RNA was reverse-transcribed and analyzed using real-time PCR. Data are represented as the fold change in CXCR2 transcripts relative to uninfected animals. These data are representative of two experiments, with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≥ 3 animals per group per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CXCR2 immunoneutralization prevents RSV-induced airway hyperreactivity without altering RSV infection. RSV-infected animals treated with NGS demonstrated airway hyperresponsiveness after a methacholine challenge at 12 dpi. This AHR was prevented in RSV-infected animals receiving anti-CXCR2 treatment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. Anti-CXCR2 treatment was not having its beneficial effects by preventing RSV infection, as RSV mRNA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 and RSV Ag levels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c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 were comparable in both the RSV/NGS and the RSV/anti-CXCR2 experimental groups. RSV mRNA was monitored using real-time PCR. Results are expressed as the fold change in RSV G protein transcripts relative to RSV/NGS animals at 4 dpi. ∗, Statistically significant decrease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≤ 0.05) in RSV-induced AHR with anti-CXCR2 treatment as compared with control se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CXCR2 is expressed on alveolar macrophages during RSV infection. BALF was collected from RSV-infected animals at 8 dpi, and the isolated cells were cytospun onto glass slides. Cells were stained with an Ab specific for CXCR2 and were visualized at ×20 and ×100 magnification. Positive staining is indicated in red. Cells stained with an isotype control Ab did not stain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and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c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. However, punctate staining for CXCR2 was observed on alveolar macrophages (arrows,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and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. In addition, the few neutrophils that were present in the BALF stained intensely for CXCR2, as expected. (data not shown) These results were repeated in three separate experi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RSV-induced AHR is prevented in mice deficient for CXCR2. RSV-infected wild-type animals demonstrated airway hyperresponsiveness after a methacholine challenge at 8 dpi. However, RSV-infected animals deficient for CXCR2 failed to develop AHR after a methacholine challenge at 6, 8, or 12 dpi. ∗, Statistically significant decrease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≤ 0.05) RSV-induced AHR in CXCR2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−/−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mice as compared with wild-type m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CXCR2 modulates RSV-induced goblet cell metaplasia. Lungs from RSV/NGS, RSV/anti-CXCR2, and RSV-infected CXCR2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−/−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mice were harvested at 12 dpi and were sectioned. PAS staining was done to identify mucus-producing cells. Images were captured at ×20 magnification. RSV infection induces goblet cell metaplasia, as indicated by magenta staining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. Anti-CXCR2 treatment during RSV infection suppresses mucus production as evidenced by significantly fewer PAS-positive cells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. A role for CXCR2-mediated mucus production was confirmed by results showing that the RSV infection of CXCR2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−/−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mice was unable to induce the extent of mucus production that was observed in RSV-infected wild-type mice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c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. These results are representative of three experiments, with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≥ 5 animals per group per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CXCR2 contributes to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gob-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gene expression during RSV infection. Real-time PCR was used to monitor the expression of the mucus-associated gene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gob-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. Data shown are representative of three experiments, with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≥ 3 animals per group per experiment. Results are expressed as the fold change in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gob-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expression relative to uninfected animals. RSV-infected mice receiving control serum displayed a significant increase in the expression of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gob-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. Anti-CXCR2 treatment during RSV infection significantly suppressed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gob-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expression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. Likewise, infection of wild-type mice induced expression of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gob-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; however, transcription of this gene was suppressed during RSV infection in CXCR2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−/−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mice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. ∗, Statistically significant decrease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≤ 0.05) in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gob-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expression in mice depleted of or deficient for CXCR2 as compared with their appropriate controls.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gob-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protein, localized to RSV-infected airways by immunohistochemistry, paralleled gene expression data. Specifically, RSV-infected mice depleted of or deficient for CXCR2 displayed decreased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gob-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immunoreactivity relative to their appropriate RSV-infected controls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,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f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, and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. No staining was observed using normal rabbit serum as the appropriate isotype control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c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,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, and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CXCR2 contributes to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muc5ac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gene expression during RSV infection. Real-time PCR was used to monitor the expression of the mucus-associated gene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muc5ac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. Data shown are representative of three experiments, with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≥ 3 animals per group per experiment. Results are expressed as the fold change in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muc5ac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expression relative to uninfected animals. RSV-infected mice receiving control serum displayed a significant increase in the expression of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muc5ac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; however, expression of this gene was not altered with anti-CXCR2 treatment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. In contrast, infection of wild-type mice induced expression of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muc5ac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that was inhibited in CXCR2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−/−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mice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. ∗, Statistically significant decrease in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muc5ac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expression in mice deficient for CXCR2 as compared with RSV-infected wild-type mice.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muc5ac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protein, localized to RSV-infected airways using immunohistochemistry, paralleled gene expression data. Specifically, RSV-infected mice treated with control serum or anti-CXCR2 did not differ in the amount of muc5ac immunoreactivity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and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f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. However, RSV-infected CXCR2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−/−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animals displayed less muc5ac staining as compared with their wild-type controls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. No staining was observed using normal chicken serum as the appropriate isotype control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c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,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,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and g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980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XCR2 Regulates Respiratory Syncytial Virus-Induced Airway Hyperreactivity and Mucus Over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800" y="2259000"/>
            <a:ext cx="860436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y Allison L. Miller, Robert M. Strieter, Achim D. Gruber, Samuel B. Ho, and Nicholas W. Luka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8360" y="5641920"/>
            <a:ext cx="860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J Immun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olume 170(6):3348-33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March 15,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2003 by The American Association of Immunologis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343640" y="6696000"/>
            <a:ext cx="2519640" cy="7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SV infection induces CXCR2 expression in the lung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343640" y="6696000"/>
            <a:ext cx="2519640" cy="719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39800" y="1398600"/>
            <a:ext cx="8604360" cy="47559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3980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llison L. Miller et al. J Immunol 2003;170:3348-335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2003 by The American Association of Immunologis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XCR2 immunoneutralization prevents RSV-induced airway hyperreactivity without altering RSV inf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343640" y="6696000"/>
            <a:ext cx="2519640" cy="719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448080" y="1079640"/>
            <a:ext cx="3189240" cy="5394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44808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llison L. Miller et al. J Immunol 2003;170:3348-335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2003 by The American Association of Immunologis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XCR2 is expressed on alveolar macrophages during RSV inf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343640" y="6696000"/>
            <a:ext cx="2519640" cy="719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338120" y="1079640"/>
            <a:ext cx="7409160" cy="5394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33812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llison L. Miller et al. J Immunol 2003;170:3348-335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2003 by The American Association of Immunologis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SV-induced AHR is prevented in mice deficient for CXCR2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343640" y="6696000"/>
            <a:ext cx="2519640" cy="719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39800" y="1407960"/>
            <a:ext cx="8604360" cy="4737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3980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llison L. Miller et al. J Immunol 2003;170:3348-335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2003 by The American Association of Immunologis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XCR2 modulates RSV-induced goblet cell metaplasi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343640" y="6696000"/>
            <a:ext cx="2519640" cy="719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39800" y="2620800"/>
            <a:ext cx="8604360" cy="2313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3980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llison L. Miller et al. J Immunol 2003;170:3348-335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2003 by The American Association of Immunologis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XCR2 contributes to gob-5 gene expression during RSV inf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43640" y="6696000"/>
            <a:ext cx="2519640" cy="719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779560" y="1079640"/>
            <a:ext cx="4526280" cy="53942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77956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llison L. Miller et al. J Immunol 2003;170:3348-335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2003 by The American Association of Immunologis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XCR2 contributes to muc5ac gene expression during RSV inf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343640" y="6696000"/>
            <a:ext cx="2519640" cy="719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824200" y="1079640"/>
            <a:ext cx="4438440" cy="53942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82420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llison L. Miller et al. J Immunol 2003;170:3348-335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2003 by The American Association of Immunologis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