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DF-1 activates Rap1 and Rap2 in B cells. 2PK3 cell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or WEHI-231 cel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were stimulated with 100 ng/ml (12.5 nM) SDF-1 for the indicated times. A GST-RalGDS fusion protein was used to selectively precipitate the active GTP-bound forms of Rap1 and Rap2, which were detected by immunoblotting with specific Abs. Molecular mass markers (in kilodaltons) are shown to the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For each panel similar results were obtained in at least three independent experi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tivation of Rap1 and Rap2 via PLC-derived second messenger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WEHI-231 cells were pretreated with the indicated concentrations of the PLC inhibitor U73122 or the inactive structural analog U73343 for 20 min. The cells were then stimulated for 5 min with 100 ng/ml (12.5 nM) SDF-1. Rap activation was assessed as in Fig. 1.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WEHI-231 cells were stimulated with 100 nM PdBu, a phorbol ester that mimics the PLC-derived second messenger DAG. Rap activation assays were then performed. For each panel similar results were obtained in at least three independent experi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apGAPII expression inhibits SDF-1-induced activation of Rap1 and Rap2.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Retroviruses were used to establish stable bulk populations of 2PK3, WEHI-231, and DT40 cells containing either the empty pMSCV vector (</a:t>
            </a:r>
            <a:r>
              <a:rPr b="0" i="1" lang="en-GB" sz="1200" spc="-1" strike="noStrike">
                <a:solidFill>
                  <a:srgbClr val="000000"/>
                </a:solidFill>
                <a:latin typeface="Arial"/>
                <a:ea typeface="msgothic"/>
              </a:rPr>
              <a:t>lane 1</a:t>
            </a:r>
            <a:r>
              <a:rPr b="0" lang="en-GB" sz="1200" spc="-1" strike="noStrike">
                <a:solidFill>
                  <a:srgbClr val="000000"/>
                </a:solidFill>
                <a:latin typeface="Arial"/>
                <a:ea typeface="msgothic"/>
              </a:rPr>
              <a:t>) or pMSCV containing cDNA encoding FLAG-tagged RapGAPII (</a:t>
            </a:r>
            <a:r>
              <a:rPr b="0" i="1" lang="en-GB" sz="1200" spc="-1" strike="noStrike">
                <a:solidFill>
                  <a:srgbClr val="000000"/>
                </a:solidFill>
                <a:latin typeface="Arial"/>
                <a:ea typeface="msgothic"/>
              </a:rPr>
              <a:t>lane 2</a:t>
            </a:r>
            <a:r>
              <a:rPr b="0" lang="en-GB" sz="1200" spc="-1" strike="noStrike">
                <a:solidFill>
                  <a:srgbClr val="000000"/>
                </a:solidFill>
                <a:latin typeface="Arial"/>
                <a:ea typeface="msgothic"/>
              </a:rPr>
              <a:t>). The expression of FLAG-RapGAPII was detected by immunoblotting cell extracts with anti-RapGAPII Abs. Similar results were obtained using anti-FLAG Ab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Vector-transfected and RapGAPII-expressing 2PK3 cel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WEHI-231 cell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or DT40 cells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were stimulated with 100 ng/ml (12.5 nM) SDF-1 for the indicated times. Rap activation was analyzed as in Fig. 1. Molecular mass markers (in kilodaltons) are shown to the </a:t>
            </a:r>
            <a:r>
              <a:rPr b="0" i="1" lang="en-GB" sz="1200" spc="-1" strike="noStrike">
                <a:solidFill>
                  <a:srgbClr val="000000"/>
                </a:solidFill>
                <a:latin typeface="Arial"/>
                <a:ea typeface="msgothic"/>
              </a:rPr>
              <a:t>left</a:t>
            </a:r>
            <a:r>
              <a:rPr b="0" lang="en-GB" sz="1200" spc="-1" strike="noStrike">
                <a:solidFill>
                  <a:srgbClr val="000000"/>
                </a:solidFill>
                <a:latin typeface="Arial"/>
                <a:ea typeface="msgothic"/>
              </a:rPr>
              <a:t>. For each panel similar results were obtained in at least two independent experi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apGAPII expression does not alter other aspects of SDF-1-induced signaling.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RapGAPII expression does not alter cell surface expression of CXCR4. Vector-transfected and RapGAPII-expressing WEHI-231 cells (</a:t>
            </a:r>
            <a:r>
              <a:rPr b="0" i="1" lang="en-GB" sz="1200" spc="-1" strike="noStrike">
                <a:solidFill>
                  <a:srgbClr val="000000"/>
                </a:solidFill>
                <a:latin typeface="Arial"/>
                <a:ea typeface="msgothic"/>
              </a:rPr>
              <a:t>left panels</a:t>
            </a:r>
            <a:r>
              <a:rPr b="0" lang="en-GB" sz="1200" spc="-1" strike="noStrike">
                <a:solidFill>
                  <a:srgbClr val="000000"/>
                </a:solidFill>
                <a:latin typeface="Arial"/>
                <a:ea typeface="msgothic"/>
              </a:rPr>
              <a:t>) or 2PK3 cells (</a:t>
            </a:r>
            <a:r>
              <a:rPr b="0" i="1" lang="en-GB" sz="1200" spc="-1" strike="noStrike">
                <a:solidFill>
                  <a:srgbClr val="000000"/>
                </a:solidFill>
                <a:latin typeface="Arial"/>
                <a:ea typeface="msgothic"/>
              </a:rPr>
              <a:t>right panels</a:t>
            </a:r>
            <a:r>
              <a:rPr b="0" lang="en-GB" sz="1200" spc="-1" strike="noStrike">
                <a:solidFill>
                  <a:srgbClr val="000000"/>
                </a:solidFill>
                <a:latin typeface="Arial"/>
                <a:ea typeface="msgothic"/>
              </a:rPr>
              <a:t>) were analyzed for CXCR4 expression by flow cytometry. The thin lines represent unstained cells while the thick lines represent cells stained with rabbit anti-CXCR4 plus FITC-conjugated goat anti-rabbit IgG. CXCR4 expression on DT40 cells could not be assessed because Abs to chicken CXCR4 are not availabl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RapGAPII expression does not inhibit SDF-1-induced activation of ERK or Akt. Vector-transfected and RapGAPII-expressing WEHI-231 cells were stimulated with 100 ng/ml (12.5 nM) SDF-1 for the indicated times. Activation of the ERK and Akt kinases was analyzed by immunoblotting with Abs that recognize the active, phosphorylated forms of ERK1 and ERK2 (</a:t>
            </a:r>
            <a:r>
              <a:rPr b="0" i="1" lang="en-GB" sz="1200" spc="-1" strike="noStrike">
                <a:solidFill>
                  <a:srgbClr val="000000"/>
                </a:solidFill>
                <a:latin typeface="Arial"/>
                <a:ea typeface="msgothic"/>
              </a:rPr>
              <a:t>top panel</a:t>
            </a:r>
            <a:r>
              <a:rPr b="0" lang="en-GB" sz="1200" spc="-1" strike="noStrike">
                <a:solidFill>
                  <a:srgbClr val="000000"/>
                </a:solidFill>
                <a:latin typeface="Arial"/>
                <a:ea typeface="msgothic"/>
              </a:rPr>
              <a:t>) or Akt (</a:t>
            </a:r>
            <a:r>
              <a:rPr b="0" i="1" lang="en-GB" sz="1200" spc="-1" strike="noStrike">
                <a:solidFill>
                  <a:srgbClr val="000000"/>
                </a:solidFill>
                <a:latin typeface="Arial"/>
                <a:ea typeface="msgothic"/>
              </a:rPr>
              <a:t>middle panel</a:t>
            </a:r>
            <a:r>
              <a:rPr b="0" lang="en-GB" sz="1200" spc="-1" strike="noStrike">
                <a:solidFill>
                  <a:srgbClr val="000000"/>
                </a:solidFill>
                <a:latin typeface="Arial"/>
                <a:ea typeface="msgothic"/>
              </a:rPr>
              <a:t>). Equal loading was confirmed by reprobing the blots with anti-Akt Abs (</a:t>
            </a:r>
            <a:r>
              <a:rPr b="0" i="1" lang="en-GB" sz="1200" spc="-1" strike="noStrike">
                <a:solidFill>
                  <a:srgbClr val="000000"/>
                </a:solidFill>
                <a:latin typeface="Arial"/>
                <a:ea typeface="msgothic"/>
              </a:rPr>
              <a:t>bottom panel</a:t>
            </a:r>
            <a:r>
              <a:rPr b="0" lang="en-GB" sz="1200" spc="-1" strike="noStrike">
                <a:solidFill>
                  <a:srgbClr val="000000"/>
                </a:solidFill>
                <a:latin typeface="Arial"/>
                <a:ea typeface="msgothic"/>
              </a:rPr>
              <a:t>). Other experiments showed that RapGAPII expression did not alter the levels of ERK1 or ERK2 in WEHI-231 cell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RapGAPII expression does not inhibit SDF-1-induced activation of the Rac1 GTPase. Vector-transfected and RapGAPII-expressing WEHI-231 cells were stimulated with buffer alone (0), 100 nM PdBu (P), or 100 ng/ml (12.5 nM) SDF-1 (S) for 5 min. GTP-bound Rac1 was precipitated using a GST-Pak1β fusion protein and detected by immunoblotting with an anti-Rac1 Ab. For each panel similar results were obtained in at least two independent experi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apGAPII expression inhibits B cell migration toward SDF-1. Transwell assays were used to compare the migration of vector-transfected and RapGAPII-expressing 2PK3 cell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DT40 cell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or WEHI-231 cell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The cells were added to the top chamber while the bottom chamber contained either medium alone or medium containing 100 ng/ml (12.5 nM) SDF-1. After 3 h at 37°C, the number of cells that had migrated into the lower chamber was determined. The data are expressed as the percentage of the total input cells that had migrated into the lower chamber. Each point represents the mean ± SD for triplicate wells in the same experiment. For each panel similar results were obtained in at least three independent experi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ap2V12 expression increases B cell migration toward SDF-1.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Retroviruses were used to establish stable bulk populations of 2PK3 cells containing either the empty pMSCV vector or pMSCV containing cDNA encoding FLAG-tagged Rap2V12. Expression of FLAG-Rap2V12 was detected by immunoblotting cell extracts with the M2 anti-FLAG mAb.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SDF-1-induced Rap2 activation was assessed in vector-transfected and Rap2V12-expressing 2PK3 cells as in Fig. 1. The active GTP-bound forms of the endogenous Rap2 as well as the transfected FLAG-Rap2V12 are indicated by the arrow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Transwell assays were used to compare the migration of vector-transfected and Rap2V12-expressing 2PK3 cells. The cells were added to the top chamber while the bottom chamber contained either medium alone or medium containing 100 ng/ml (12.5 nM) SDF-1. After 3 h at 37°C, the number of cells that had migrated into the lower chamber was determined. The data are expressed as the percentage of the total input cells that had migrated into the lower chamber. Each point represents the mean ± SD for triplicate wells in the same experiment. For each panel similar results were obtained in at least three independent experi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he Rap GTPases Regulate B Cell Migration Toward the Chemokine Stromal Cell-Derived Factor-1 (CXCL12): Potential Role for Rap2 in Promoting B Cell Migr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arah J. McLeod, Anson H. Y. Li, Rosaline L. Lee, Anita E. Burgess, and Michael R. Gol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Immun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9(3):1365-137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696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DF-1 activates Rap1 and Rap2 in B cells. 2PK3 cells (A) or WEHI-231 cells (B) were stimulated with 100 ng/ml (12.5 nM) SDF-1 for the indicated tim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343640" y="6696000"/>
            <a:ext cx="2519640" cy="719280"/>
          </a:xfrm>
          <a:prstGeom prst="rect">
            <a:avLst/>
          </a:prstGeom>
          <a:ln w="0">
            <a:noFill/>
          </a:ln>
        </p:spPr>
      </p:pic>
      <p:pic>
        <p:nvPicPr>
          <p:cNvPr id="48" name="" descr=""/>
          <p:cNvPicPr/>
          <p:nvPr/>
        </p:nvPicPr>
        <p:blipFill>
          <a:blip r:embed="rId2"/>
          <a:stretch/>
        </p:blipFill>
        <p:spPr>
          <a:xfrm>
            <a:off x="2706840" y="1079640"/>
            <a:ext cx="4671720" cy="5394240"/>
          </a:xfrm>
          <a:prstGeom prst="rect">
            <a:avLst/>
          </a:prstGeom>
          <a:ln w="0">
            <a:noFill/>
          </a:ln>
        </p:spPr>
      </p:pic>
      <p:sp>
        <p:nvSpPr>
          <p:cNvPr id="49" name=""/>
          <p:cNvSpPr/>
          <p:nvPr/>
        </p:nvSpPr>
        <p:spPr>
          <a:xfrm>
            <a:off x="27068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J. McLeod et al. J Immunol 2002;169:1365-137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tivation of Rap1 and Rap2 via PLC-derived second messenger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343640" y="6696000"/>
            <a:ext cx="2519640" cy="719280"/>
          </a:xfrm>
          <a:prstGeom prst="rect">
            <a:avLst/>
          </a:prstGeom>
          <a:ln w="0">
            <a:noFill/>
          </a:ln>
        </p:spPr>
      </p:pic>
      <p:pic>
        <p:nvPicPr>
          <p:cNvPr id="53" name="" descr=""/>
          <p:cNvPicPr/>
          <p:nvPr/>
        </p:nvPicPr>
        <p:blipFill>
          <a:blip r:embed="rId2"/>
          <a:stretch/>
        </p:blipFill>
        <p:spPr>
          <a:xfrm>
            <a:off x="2925720" y="1079640"/>
            <a:ext cx="4232160" cy="5394240"/>
          </a:xfrm>
          <a:prstGeom prst="rect">
            <a:avLst/>
          </a:prstGeom>
          <a:ln w="0">
            <a:noFill/>
          </a:ln>
        </p:spPr>
      </p:pic>
      <p:sp>
        <p:nvSpPr>
          <p:cNvPr id="54" name=""/>
          <p:cNvSpPr/>
          <p:nvPr/>
        </p:nvSpPr>
        <p:spPr>
          <a:xfrm>
            <a:off x="2925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J. McLeod et al. J Immunol 2002;169:1365-137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apGAPII expression inhibits SDF-1-induced activation of Rap1 and Rap2.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343640" y="6696000"/>
            <a:ext cx="2519640" cy="719280"/>
          </a:xfrm>
          <a:prstGeom prst="rect">
            <a:avLst/>
          </a:prstGeom>
          <a:ln w="0">
            <a:noFill/>
          </a:ln>
        </p:spPr>
      </p:pic>
      <p:pic>
        <p:nvPicPr>
          <p:cNvPr id="58" name="" descr=""/>
          <p:cNvPicPr/>
          <p:nvPr/>
        </p:nvPicPr>
        <p:blipFill>
          <a:blip r:embed="rId2"/>
          <a:stretch/>
        </p:blipFill>
        <p:spPr>
          <a:xfrm>
            <a:off x="739800" y="1244520"/>
            <a:ext cx="8604360" cy="506412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J. McLeod et al. J Immunol 2002;169:1365-137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apGAPII expression does not alter other aspects of SDF-1-induced signaling.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343640" y="6696000"/>
            <a:ext cx="2519640" cy="719280"/>
          </a:xfrm>
          <a:prstGeom prst="rect">
            <a:avLst/>
          </a:prstGeom>
          <a:ln w="0">
            <a:noFill/>
          </a:ln>
        </p:spPr>
      </p:pic>
      <p:pic>
        <p:nvPicPr>
          <p:cNvPr id="63" name="" descr=""/>
          <p:cNvPicPr/>
          <p:nvPr/>
        </p:nvPicPr>
        <p:blipFill>
          <a:blip r:embed="rId2"/>
          <a:stretch/>
        </p:blipFill>
        <p:spPr>
          <a:xfrm>
            <a:off x="1905120" y="1079640"/>
            <a:ext cx="6273720" cy="5394240"/>
          </a:xfrm>
          <a:prstGeom prst="rect">
            <a:avLst/>
          </a:prstGeom>
          <a:ln w="0">
            <a:noFill/>
          </a:ln>
        </p:spPr>
      </p:pic>
      <p:sp>
        <p:nvSpPr>
          <p:cNvPr id="64" name=""/>
          <p:cNvSpPr/>
          <p:nvPr/>
        </p:nvSpPr>
        <p:spPr>
          <a:xfrm>
            <a:off x="1905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J. McLeod et al. J Immunol 2002;169:1365-137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apGAPII expression inhibits B cell migration toward SDF-1.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343640" y="6696000"/>
            <a:ext cx="2519640" cy="719280"/>
          </a:xfrm>
          <a:prstGeom prst="rect">
            <a:avLst/>
          </a:prstGeom>
          <a:ln w="0">
            <a:noFill/>
          </a:ln>
        </p:spPr>
      </p:pic>
      <p:pic>
        <p:nvPicPr>
          <p:cNvPr id="68" name="" descr=""/>
          <p:cNvPicPr/>
          <p:nvPr/>
        </p:nvPicPr>
        <p:blipFill>
          <a:blip r:embed="rId2"/>
          <a:stretch/>
        </p:blipFill>
        <p:spPr>
          <a:xfrm>
            <a:off x="3930480" y="1079640"/>
            <a:ext cx="2224080" cy="5394240"/>
          </a:xfrm>
          <a:prstGeom prst="rect">
            <a:avLst/>
          </a:prstGeom>
          <a:ln w="0">
            <a:noFill/>
          </a:ln>
        </p:spPr>
      </p:pic>
      <p:sp>
        <p:nvSpPr>
          <p:cNvPr id="69" name=""/>
          <p:cNvSpPr/>
          <p:nvPr/>
        </p:nvSpPr>
        <p:spPr>
          <a:xfrm>
            <a:off x="3930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J. McLeod et al. J Immunol 2002;169:1365-137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ap2V12 expression increases B cell migration toward SDF-1.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343640" y="6696000"/>
            <a:ext cx="2519640" cy="719280"/>
          </a:xfrm>
          <a:prstGeom prst="rect">
            <a:avLst/>
          </a:prstGeom>
          <a:ln w="0">
            <a:noFill/>
          </a:ln>
        </p:spPr>
      </p:pic>
      <p:pic>
        <p:nvPicPr>
          <p:cNvPr id="73" name="" descr=""/>
          <p:cNvPicPr/>
          <p:nvPr/>
        </p:nvPicPr>
        <p:blipFill>
          <a:blip r:embed="rId2"/>
          <a:stretch/>
        </p:blipFill>
        <p:spPr>
          <a:xfrm>
            <a:off x="3076560" y="1079640"/>
            <a:ext cx="3932280" cy="5394240"/>
          </a:xfrm>
          <a:prstGeom prst="rect">
            <a:avLst/>
          </a:prstGeom>
          <a:ln w="0">
            <a:noFill/>
          </a:ln>
        </p:spPr>
      </p:pic>
      <p:sp>
        <p:nvSpPr>
          <p:cNvPr id="74" name=""/>
          <p:cNvSpPr/>
          <p:nvPr/>
        </p:nvSpPr>
        <p:spPr>
          <a:xfrm>
            <a:off x="3076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J. McLeod et al. J Immunol 2002;169:1365-137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