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 vitro priming of cytotoxic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in the absence of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 help.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Bone marrow-derived DC were infected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or left uninfected for 40 h, stained for MHC class I, B7.1, and B7.2, and analyzed by flow cytometry. Cells were gated on monocyte population by size, and expression of markers within monocyte gate was analyzed. Shown is a representative experiment that was repeated twic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Lymph node cells from three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naive mice were pooled and cultured for 5 days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infected MHC class II</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DC and used as effectors in a 4-h </a:t>
            </a:r>
            <a:r>
              <a:rPr b="0" lang="en-GB" sz="1200" spc="-1" strike="noStrike" baseline="33000">
                <a:solidFill>
                  <a:srgbClr val="000000"/>
                </a:solidFill>
                <a:latin typeface="Arial"/>
                <a:ea typeface="msgothic"/>
              </a:rPr>
              <a:t>51</a:t>
            </a:r>
            <a:r>
              <a:rPr b="0" lang="en-GB" sz="1200" spc="-1" strike="noStrike">
                <a:solidFill>
                  <a:srgbClr val="000000"/>
                </a:solidFill>
                <a:latin typeface="Arial"/>
                <a:ea typeface="msgothic"/>
              </a:rPr>
              <a:t>Cr release cytotoxicity assay. Targets: uninfected bone marrow-derived macrophages (○) and macrophages infected for 42 h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 Error bars represent 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iming of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in the lymph nodes of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infected mice in the absence of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WT (open bars) and MHC class II</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filled bars) mice were infected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bacilli via aerosol, and lung-draining lymph nodes were harvested 0, 1, 2, 3, and 6 wk postinfection. Cells were stained for CD8, CD69, and CD25, gated on lymphocyte population by size, and analyzed by flow cytometry. Cells were further gated on CD8, and CD69</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nd CD25 expression in the gate was analyzed. Each bar corresponds to three to six mice. Similar data were obtained using lymph nodes from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WT (□)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 mice were infected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bacilli via aerosol, and lung-draining lymph nodes were harvested 0, 1, 2, 3, and 4 wk postinfection. Numbers of viable cells in lymph nodes were counted by trypan blue exclusion. Cells were stained for CD8 and CD69, gated on lymphocyte population by size, and analyzed by flow cytometry. The total numbers of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were calculated based on percentages of the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nd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CD69</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in the lymphocyte gate.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Lymph node cells from W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infected for 4 wk were cultured for 5 days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infected MHC class II</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DC and used in a 4-h </a:t>
            </a:r>
            <a:r>
              <a:rPr b="0" lang="en-GB" sz="1200" spc="-1" strike="noStrike" baseline="33000">
                <a:solidFill>
                  <a:srgbClr val="000000"/>
                </a:solidFill>
                <a:latin typeface="Arial"/>
                <a:ea typeface="msgothic"/>
              </a:rPr>
              <a:t>51</a:t>
            </a:r>
            <a:r>
              <a:rPr b="0" lang="en-GB" sz="1200" spc="-1" strike="noStrike">
                <a:solidFill>
                  <a:srgbClr val="000000"/>
                </a:solidFill>
                <a:latin typeface="Arial"/>
                <a:ea typeface="msgothic"/>
              </a:rPr>
              <a:t>Cr release cytotoxicity assay. Targets: uninfected bone marrow-derived macrophages (○) and macrophages infected for 42 h (•). Error bars represent SE; at some time points, error bars are too small to be seen on the grap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 infiltration of the lungs following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infection in W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WT (□)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 mice were infected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bacilli via aerosol and lung cells were harvested 0, 2, 4, and 6 wk postinfect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Numbers of viable cells in lungs were counted by trypan blue exclusion. For all time point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gt; 0.05.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ells were stained for CD8, gated on lymphocyte population by size, and analyzed by flow cytometry. The total numbers of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were calculated based on percentages of the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in the lymphocyte gate.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1.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W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infected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for 4 wk were administered BrdU i.p and lungs were harvested 24 h later. Cells were stained for CD8, permeabilized, stained with anti-BrdU Ab (solid line) or isotype control (gray line), and analyzed by flow cytometry, gating on the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Shown is a representative experiment, and the experiment was repeated two ti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activation profiles of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in the lungs of W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during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infection. Mice were infected via aerosol, and lung cells were harvested 0, 2, 4, and 6 wk postinfection, stained for CD8, CD44, CD45RB, and CD69, gated on lymphocyte population by size, and analyzed by flow cytometry.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Cells from WT (thin solid lines) or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hick solid lines) lungs were further gated on CD8, and expression of CD44 and CD45RB within the gate was analyzed. Broken lines represent staining with isotype control. Shown is a representative mouse for each time point. Experiment was repeated at least three time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Expression of CD8 and CD69 in the lungs 1 wk postinfection. Shown is a representative mouse, and the experiment was repeated three time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ells were harvested from lungs of WT (□)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 mice, stained for CD8 and CD69, and gated on lymphocytes. Cells were further gated on CD8, and expression of CD69 in the gate was analyzed. Each time point represents three to six mice. Error bars represent 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kine production by lung cells from aerogenically infected W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Lung cells from mice at 4 and 6 wk postinfection were stimulated with anti-CD3 and anti-CD28 Abs in the presence of monensin for 5–6 h. Cells were gated on CD8, and expression of TNF-α and IFN-γ within gate was analyzed.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Production of TNF-α and IFN-γ by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from lungs of infected mouse after anti-CD3/anti-CD28 Ab stimulation. A representative mouse infected for 4 wk is shown, and the experiment was repeated at least two times with two mice per time point.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IFN-γ production by anti-CD3/anti-CD28 Ab-stimulated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from lungs of WT (open bars)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filled bars) mice. Each time point represents three to six mice.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ells from the lungs of WT (open bars)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filled bars) mice infected for 4 wk were cultured in the medium alone or with various stimulators for 3 days and supernatants were assayed for the presence of IFN-γ by ELISA.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were depleted from WT mice 4 days before harvest of cells, and MHC class II</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DCs were used as stimulators so that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 IFN-γ production could be measure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Ex vivo IFN-γ production by unstimulated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from lungs of WT (open bars)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filled bars) mice after 5 h of culture in the presence of monensin. Each time point represents three to six mice. Error bars represent 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toxic activity of CD8</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from lungs of W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Lung cells were harvested from WT (squares)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ircles) mice 4 wk postinfection (i.v.), cultured with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infected MHC class II</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DC for 5 days, and used in a 4-h </a:t>
            </a:r>
            <a:r>
              <a:rPr b="0" lang="en-GB" sz="1200" spc="-1" strike="noStrike" baseline="33000">
                <a:solidFill>
                  <a:srgbClr val="000000"/>
                </a:solidFill>
                <a:latin typeface="Arial"/>
                <a:ea typeface="msgothic"/>
              </a:rPr>
              <a:t>51</a:t>
            </a:r>
            <a:r>
              <a:rPr b="0" lang="en-GB" sz="1200" spc="-1" strike="noStrike">
                <a:solidFill>
                  <a:srgbClr val="000000"/>
                </a:solidFill>
                <a:latin typeface="Arial"/>
                <a:ea typeface="msgothic"/>
              </a:rPr>
              <a:t>Cr release cytotoxicity assay. Targets: uninfected macrophages (open symbols) and macrophages infected for 36 h (filled symbo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Lung cells were harvested from 4-wk-infected WT (</a:t>
            </a:r>
            <a:r>
              <a:rPr b="0" i="1" lang="en-GB" sz="1200" spc="-1" strike="noStrike">
                <a:solidFill>
                  <a:srgbClr val="000000"/>
                </a:solidFill>
                <a:latin typeface="Arial"/>
                <a:ea typeface="msgothic"/>
              </a:rPr>
              <a:t>left panel</a:t>
            </a:r>
            <a:r>
              <a:rPr b="0" lang="en-GB" sz="1200" spc="-1" strike="noStrike">
                <a:solidFill>
                  <a:srgbClr val="000000"/>
                </a:solidFill>
                <a:latin typeface="Arial"/>
                <a:ea typeface="msgothic"/>
              </a:rPr>
              <a: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right panel</a:t>
            </a:r>
            <a:r>
              <a:rPr b="0" lang="en-GB" sz="1200" spc="-1" strike="noStrike">
                <a:solidFill>
                  <a:srgbClr val="000000"/>
                </a:solidFill>
                <a:latin typeface="Arial"/>
                <a:ea typeface="msgothic"/>
              </a:rPr>
              <a:t>) mice and used directly in a 4-h </a:t>
            </a:r>
            <a:r>
              <a:rPr b="0" lang="en-GB" sz="1200" spc="-1" strike="noStrike" baseline="33000">
                <a:solidFill>
                  <a:srgbClr val="000000"/>
                </a:solidFill>
                <a:latin typeface="Arial"/>
                <a:ea typeface="msgothic"/>
              </a:rPr>
              <a:t>51</a:t>
            </a:r>
            <a:r>
              <a:rPr b="0" lang="en-GB" sz="1200" spc="-1" strike="noStrike">
                <a:solidFill>
                  <a:srgbClr val="000000"/>
                </a:solidFill>
                <a:latin typeface="Arial"/>
                <a:ea typeface="msgothic"/>
              </a:rPr>
              <a:t>Cr release assay against FcR</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P815 cells in the absence (○) or presence (•) of anti-TCRαβ Ab. WT mice were depleted of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4 days before lung harvest. The experiment was repeated two times. Error bars represent 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of IL-2 and IL-15 genes in the lungs of WT and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mice during </a:t>
            </a:r>
            <a:r>
              <a:rPr b="0" i="1" lang="en-GB" sz="1200" spc="-1" strike="noStrike">
                <a:solidFill>
                  <a:srgbClr val="000000"/>
                </a:solidFill>
                <a:latin typeface="Arial"/>
                <a:ea typeface="msgothic"/>
              </a:rPr>
              <a:t>M. tuberculosis</a:t>
            </a:r>
            <a:r>
              <a:rPr b="0" lang="en-GB" sz="1200" spc="-1" strike="noStrike">
                <a:solidFill>
                  <a:srgbClr val="000000"/>
                </a:solidFill>
                <a:latin typeface="Arial"/>
                <a:ea typeface="msgothic"/>
              </a:rPr>
              <a:t> infection. Mice were infected via aerosol and lungs were harvested 0, 3, and 4 wk postinfection. Total RNA was isolated and expression of IL-2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IL-15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genes was examined using the ribonuclease protection assay. Intensities of the bands on the autoradiographs were quantitated by densitometry and the results are expressed as ratio of band intensities of genes of interest and housekeeping gene, L32. Each time point represents two to four mice. Error bars represent SE. The experiment was repeated once with similar results.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1;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D4</a:t>
            </a:r>
            <a:r>
              <a:rPr b="1" lang="en-GB" sz="2400" spc="-1" strike="noStrike" baseline="33000">
                <a:solidFill>
                  <a:srgbClr val="000000"/>
                </a:solidFill>
                <a:latin typeface="Arial"/>
              </a:rPr>
              <a:t>+</a:t>
            </a:r>
            <a:r>
              <a:rPr b="1" lang="en-GB" sz="2400" spc="-1" strike="noStrike">
                <a:solidFill>
                  <a:srgbClr val="000000"/>
                </a:solidFill>
                <a:latin typeface="Arial"/>
              </a:rPr>
              <a:t> T Cells Are Required for the Development of Cytotoxic CD8</a:t>
            </a:r>
            <a:r>
              <a:rPr b="1" lang="en-GB" sz="2400" spc="-1" strike="noStrike" baseline="33000">
                <a:solidFill>
                  <a:srgbClr val="000000"/>
                </a:solidFill>
                <a:latin typeface="Arial"/>
              </a:rPr>
              <a:t>+</a:t>
            </a:r>
            <a:r>
              <a:rPr b="1" lang="en-GB" sz="2400" spc="-1" strike="noStrike">
                <a:solidFill>
                  <a:srgbClr val="000000"/>
                </a:solidFill>
                <a:latin typeface="Arial"/>
              </a:rPr>
              <a:t> T Cells During Mycobacterium tuberculosis Infec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atalya V. Serbina, Vanja Lazarevic, and JoAnne L. Flyn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Immun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7(12):6991-700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696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 vitro priming of cytotoxic CD8+ T cells in the absence of CD4+ T cell help.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343640" y="6696000"/>
            <a:ext cx="2519640" cy="719280"/>
          </a:xfrm>
          <a:prstGeom prst="rect">
            <a:avLst/>
          </a:prstGeom>
          <a:ln w="0">
            <a:noFill/>
          </a:ln>
        </p:spPr>
      </p:pic>
      <p:pic>
        <p:nvPicPr>
          <p:cNvPr id="48" name="" descr=""/>
          <p:cNvPicPr/>
          <p:nvPr/>
        </p:nvPicPr>
        <p:blipFill>
          <a:blip r:embed="rId2"/>
          <a:stretch/>
        </p:blipFill>
        <p:spPr>
          <a:xfrm>
            <a:off x="739800" y="1525680"/>
            <a:ext cx="8604360" cy="450216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ya V. Serbina et al. J Immunol 2001;167:6991-700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iming of CD8+ T cells in the lymph nodes of M. tuberculosis-infected mice in the absence of CD4+ T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343640" y="6696000"/>
            <a:ext cx="2519640" cy="719280"/>
          </a:xfrm>
          <a:prstGeom prst="rect">
            <a:avLst/>
          </a:prstGeom>
          <a:ln w="0">
            <a:noFill/>
          </a:ln>
        </p:spPr>
      </p:pic>
      <p:pic>
        <p:nvPicPr>
          <p:cNvPr id="53" name="" descr=""/>
          <p:cNvPicPr/>
          <p:nvPr/>
        </p:nvPicPr>
        <p:blipFill>
          <a:blip r:embed="rId2"/>
          <a:stretch/>
        </p:blipFill>
        <p:spPr>
          <a:xfrm>
            <a:off x="739800" y="1322280"/>
            <a:ext cx="8604360" cy="49086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ya V. Serbina et al. J Immunol 2001;167:6991-700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D8+ T cell infiltration of the lungs following M. tuberculosis infection in WT and CD4−/− mic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343640" y="6696000"/>
            <a:ext cx="2519640" cy="719280"/>
          </a:xfrm>
          <a:prstGeom prst="rect">
            <a:avLst/>
          </a:prstGeom>
          <a:ln w="0">
            <a:noFill/>
          </a:ln>
        </p:spPr>
      </p:pic>
      <p:pic>
        <p:nvPicPr>
          <p:cNvPr id="58" name="" descr=""/>
          <p:cNvPicPr/>
          <p:nvPr/>
        </p:nvPicPr>
        <p:blipFill>
          <a:blip r:embed="rId2"/>
          <a:stretch/>
        </p:blipFill>
        <p:spPr>
          <a:xfrm>
            <a:off x="2933640" y="1079640"/>
            <a:ext cx="4216320" cy="5394240"/>
          </a:xfrm>
          <a:prstGeom prst="rect">
            <a:avLst/>
          </a:prstGeom>
          <a:ln w="0">
            <a:noFill/>
          </a:ln>
        </p:spPr>
      </p:pic>
      <p:sp>
        <p:nvSpPr>
          <p:cNvPr id="59" name=""/>
          <p:cNvSpPr/>
          <p:nvPr/>
        </p:nvSpPr>
        <p:spPr>
          <a:xfrm>
            <a:off x="2933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ya V. Serbina et al. J Immunol 2001;167:6991-700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activation profiles of CD8+ T cells in the lungs of WT and CD4−/− mice during M. tuberculosis infec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343640" y="6696000"/>
            <a:ext cx="2519640" cy="719280"/>
          </a:xfrm>
          <a:prstGeom prst="rect">
            <a:avLst/>
          </a:prstGeom>
          <a:ln w="0">
            <a:noFill/>
          </a:ln>
        </p:spPr>
      </p:pic>
      <p:pic>
        <p:nvPicPr>
          <p:cNvPr id="63" name="" descr=""/>
          <p:cNvPicPr/>
          <p:nvPr/>
        </p:nvPicPr>
        <p:blipFill>
          <a:blip r:embed="rId2"/>
          <a:stretch/>
        </p:blipFill>
        <p:spPr>
          <a:xfrm>
            <a:off x="757080" y="1079640"/>
            <a:ext cx="8571240" cy="5394240"/>
          </a:xfrm>
          <a:prstGeom prst="rect">
            <a:avLst/>
          </a:prstGeom>
          <a:ln w="0">
            <a:noFill/>
          </a:ln>
        </p:spPr>
      </p:pic>
      <p:sp>
        <p:nvSpPr>
          <p:cNvPr id="64" name=""/>
          <p:cNvSpPr/>
          <p:nvPr/>
        </p:nvSpPr>
        <p:spPr>
          <a:xfrm>
            <a:off x="757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ya V. Serbina et al. J Immunol 2001;167:6991-700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kine production by lung cells from aerogenically infected WT and CD4−/− mic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343640" y="6696000"/>
            <a:ext cx="2519640" cy="719280"/>
          </a:xfrm>
          <a:prstGeom prst="rect">
            <a:avLst/>
          </a:prstGeom>
          <a:ln w="0">
            <a:noFill/>
          </a:ln>
        </p:spPr>
      </p:pic>
      <p:pic>
        <p:nvPicPr>
          <p:cNvPr id="68" name="" descr=""/>
          <p:cNvPicPr/>
          <p:nvPr/>
        </p:nvPicPr>
        <p:blipFill>
          <a:blip r:embed="rId2"/>
          <a:stretch/>
        </p:blipFill>
        <p:spPr>
          <a:xfrm>
            <a:off x="2657520" y="1079640"/>
            <a:ext cx="4772160" cy="5394240"/>
          </a:xfrm>
          <a:prstGeom prst="rect">
            <a:avLst/>
          </a:prstGeom>
          <a:ln w="0">
            <a:noFill/>
          </a:ln>
        </p:spPr>
      </p:pic>
      <p:sp>
        <p:nvSpPr>
          <p:cNvPr id="69" name=""/>
          <p:cNvSpPr/>
          <p:nvPr/>
        </p:nvSpPr>
        <p:spPr>
          <a:xfrm>
            <a:off x="2657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ya V. Serbina et al. J Immunol 2001;167:6991-700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toxic activity of CD8+ T cells from lungs of WT and CD4−/− mic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343640" y="6696000"/>
            <a:ext cx="2519640" cy="719280"/>
          </a:xfrm>
          <a:prstGeom prst="rect">
            <a:avLst/>
          </a:prstGeom>
          <a:ln w="0">
            <a:noFill/>
          </a:ln>
        </p:spPr>
      </p:pic>
      <p:pic>
        <p:nvPicPr>
          <p:cNvPr id="73" name="" descr=""/>
          <p:cNvPicPr/>
          <p:nvPr/>
        </p:nvPicPr>
        <p:blipFill>
          <a:blip r:embed="rId2"/>
          <a:stretch/>
        </p:blipFill>
        <p:spPr>
          <a:xfrm>
            <a:off x="739800" y="2313000"/>
            <a:ext cx="8604360" cy="292572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ya V. Serbina et al. J Immunol 2001;167:6991-700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of IL-2 and IL-15 genes in the lungs of WT and CD4−/− mice during M. tuberculosis infecti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343640" y="6696000"/>
            <a:ext cx="2519640" cy="719280"/>
          </a:xfrm>
          <a:prstGeom prst="rect">
            <a:avLst/>
          </a:prstGeom>
          <a:ln w="0">
            <a:noFill/>
          </a:ln>
        </p:spPr>
      </p:pic>
      <p:pic>
        <p:nvPicPr>
          <p:cNvPr id="78" name="" descr=""/>
          <p:cNvPicPr/>
          <p:nvPr/>
        </p:nvPicPr>
        <p:blipFill>
          <a:blip r:embed="rId2"/>
          <a:stretch/>
        </p:blipFill>
        <p:spPr>
          <a:xfrm>
            <a:off x="3067200" y="1079640"/>
            <a:ext cx="3951000" cy="5394240"/>
          </a:xfrm>
          <a:prstGeom prst="rect">
            <a:avLst/>
          </a:prstGeom>
          <a:ln w="0">
            <a:noFill/>
          </a:ln>
        </p:spPr>
      </p:pic>
      <p:sp>
        <p:nvSpPr>
          <p:cNvPr id="79" name=""/>
          <p:cNvSpPr/>
          <p:nvPr/>
        </p:nvSpPr>
        <p:spPr>
          <a:xfrm>
            <a:off x="30672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ya V. Serbina et al. J Immunol 2001;167:6991-700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1 by The American Association of Immun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